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6B2-0234-47CD-B1C3-A5D37B71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58E-D4E2-4DD0-9E5A-91B837A7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506-A739-4691-8930-6EA790EA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FDE-A1F6-47A4-B5C9-32966AF5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6B0-40D3-4295-AECB-E2034AEF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C92-96D3-4AA3-8F5C-ABBD88E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DDF-8D5F-4002-8E48-B96196AF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7F8-2C9F-43FF-B5BB-008EB09F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1FA-8E77-41A8-94DE-65ACF9A8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309-C5ED-451A-8DB1-5AE8B0C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DBA-0F84-4A92-8EF3-8163CA0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F95-7BB4-4BE2-8F7F-99141E8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65B5-EC31-4ACD-B4AE-0BE71317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MEMORY…Again!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cKenzie Rene Thrasher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Works Cited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Wong, Kate. "Older Adults Use Their Brains Differently Than Younger Adults Do: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Scientific American." Science News, Articles and Information | Scientific 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American. Web. 04 Jan. 2012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&lt;http://www.scientificamerican.com/article.cfm?id=older-adults-use-their-br&gt;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Swaminathan, Nikhil. "Partial Recall: Why Memory Fades with Age: Scientific 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American." Science News, Articles and Information | Scientific American. Web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04 Jan. 2012. &lt;http://www.scientificamerican.com/article.cfm?id=partial-recall-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why-memory-fades&gt;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"Memory Loss and Aging: Causes, Treatment, and Help for Memory Problems."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Helpguide.org: Expert, Ad-free Articles Help Empower You with Knowledge,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Support &amp; Hope. Web. 04 Jan. 2012. 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&lt;http://helpguide.org/life/prevent_memory_loss.htm&gt;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What? And Why?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want to know,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affect does age on memory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want to know why older people have more trouble remembering simple task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Background Info.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Younger testers had better scores than older testers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Scientists noticed that younger testers used either the right or the left side of the brain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While older used both at the same time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We all have white matter pathways to the brain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Older adult’s white matter pathways erode over time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Hypothesis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believe that,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younger kids will do better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older will be close though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Items 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rd Grader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ourth Grader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encil and Paper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ance 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pod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rs. Brown and Mrs. Riffel’s permission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Process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ake up danc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each it to third and fourth on the same day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ait a day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ome back and show the dance onc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ave them do the dance in group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will rate them on a scale from 1-10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Major Observations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 lot of the younger ones knew the dance very wel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ome of the kids watched though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y watched the kids that knew it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fourth graders did just as wel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Conclusion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Even though the older did better,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still believe in my hypothesi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aybe as it got older it would chang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till believe though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Time Spent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cience classe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2 hours at the grade schoo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1 hour on the dance at hom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6:25:24Z</dcterms:created>
  <dc:creator>USD376</dc:creator>
  <dc:description/>
  <dc:language>en-US</dc:language>
  <cp:lastModifiedBy>USD376</cp:lastModifiedBy>
  <dcterms:modified xsi:type="dcterms:W3CDTF">2012-03-08T17:01:03Z</dcterms:modified>
  <cp:revision>2</cp:revision>
  <dc:subject/>
  <dc:title>MEMORY…Again!</dc:title>
</cp:coreProperties>
</file>